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3B3-1BB9-4249-9592-A2EE948D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E46-BC3B-4829-835B-89933830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E2A-73BD-4BEE-967F-FBB6D683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C01-9CF0-4FEF-9CF9-78805AE6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FC8-CE7E-47A7-B1E3-7948D67E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53B-1618-4952-9E3B-F9004D7C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603-FFDD-4207-B38F-FB3492D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5CD-4E18-4F41-8CB2-7EDCDCA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12D-3CF1-48E3-A739-6A6B57A3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B07-932D-411E-9C96-DBBF44E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E6A-BC19-4D3A-B923-70DE567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5D3-D77A-4D83-BE6A-FAE4C91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956-8476-4DB3-84D6-53A73F59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Half past or o’clock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11-13T07:54:56Z</dcterms:modified>
  <cp:revision>3</cp:revision>
  <dc:subject/>
  <dc:title>Make these times on your clocks!    </dc:title>
</cp:coreProperties>
</file>