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B27-AF9E-4C02-A58D-5878B1D5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C93-6137-49DD-B0BB-F6E79029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809-2AD5-49D2-A152-6F31AED5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F0A-0A88-4F23-927B-81087136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392-FCC5-4C73-B6A0-81E13945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313-93E6-4FDF-A894-590FBB10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80B-A4D3-4B26-B39D-55EAD2F5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9635-9BD2-4393-A8E3-87715BC3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3E8-B34B-4E7B-8C16-72D1E0A9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3D4-89AE-4923-A842-E9A5082D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426-701D-4155-BD0D-725B8743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24E-DE25-4AD3-8827-F31ACD42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157B-29BC-4D2D-8E52-4CC6F0930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lf past or o’clock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95560" y="0"/>
            <a:ext cx="674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3:26:39Z</dcterms:created>
  <dc:creator>TEACHER</dc:creator>
  <dc:description/>
  <dc:language>en-US</dc:language>
  <cp:lastModifiedBy>Staff</cp:lastModifiedBy>
  <dcterms:modified xsi:type="dcterms:W3CDTF">2006-01-09T08:55:09Z</dcterms:modified>
  <cp:revision>1</cp:revision>
  <dc:subject/>
  <dc:title>Half past or o’clock? </dc:title>
</cp:coreProperties>
</file>