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958-6A80-4DBB-BFD1-CBCA82B4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219-E2D9-4BEF-8985-6642D891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F96-069A-4834-83BA-5D5446E3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117-DEB4-4978-AD85-63237D9A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62D-1F6C-4586-972C-C278E522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33A-9C32-44C8-AF0E-7F89544A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0EC-8F3F-4D00-BB35-2BEC1315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060-5DEA-49C8-B748-5AC977AD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415-467B-40AB-92A8-C18A8529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705-74DA-4C72-B903-8C311DED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52F-2FCF-440A-96BE-CDC0FD45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D27-FAEE-4BB5-A74A-6C496021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1ACE-05F1-4DEE-868A-C1CFC2490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Can you make these times?</a:t>
            </a:r>
            <a:br>
              <a:rPr sz="4700"/>
            </a:b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br>
              <a:rPr sz="47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3573360"/>
            <a:ext cx="2330640" cy="211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364500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16000" y="3357720"/>
            <a:ext cx="99864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45:00Z</dcterms:created>
  <dc:creator>TEACHER</dc:creator>
  <dc:description/>
  <dc:language>en-US</dc:language>
  <cp:lastModifiedBy>TEACHER</cp:lastModifiedBy>
  <dcterms:modified xsi:type="dcterms:W3CDTF">2008-01-13T20:58:03Z</dcterms:modified>
  <cp:revision>4</cp:revision>
  <dc:subject/>
  <dc:title>Make these times on your clocks!    </dc:title>
</cp:coreProperties>
</file>