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2338-E90B-4AAA-AC7D-F50D32442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2B2C-A171-46D4-81B9-4A3330E5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5A27-8AF4-4045-9B35-27FDF038E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7E23-753E-4F93-9A7B-0F456686E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3D2D-AEE4-4CF7-91D9-165E701B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0FF7-997E-48B6-843E-D73EEE9B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960C-2BD8-413C-9E43-F4376841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C6B1-65D8-4B55-B063-38EF43DC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A6A2-4DCE-41DD-9633-65F1F5B9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64E3-0859-4E4E-862D-96A2343F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35ED-758C-4348-85CD-9EA4E960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E29E-2E44-44D9-96EF-B7AD5D3A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C3DD-4D4F-4B74-B4A8-72E749372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700" spc="-1" strike="noStrike">
                <a:solidFill>
                  <a:srgbClr val="000000"/>
                </a:solidFill>
                <a:latin typeface="Arial"/>
              </a:rPr>
              <a:t>Make these times on your clocks!</a:t>
            </a:r>
            <a:br>
              <a:rPr sz="4700"/>
            </a:br>
            <a:br>
              <a:rPr sz="4700"/>
            </a:br>
            <a:br>
              <a:rPr sz="47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348000" y="3357720"/>
            <a:ext cx="2330640" cy="2119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796000" y="476280"/>
            <a:ext cx="1344600" cy="1368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877080" y="3573360"/>
            <a:ext cx="1671480" cy="1743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564080" y="3406680"/>
            <a:ext cx="15840" cy="49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1116000" y="3429000"/>
            <a:ext cx="998640" cy="3097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1979640" y="549360"/>
            <a:ext cx="11826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700"/>
            </a:br>
            <a:br>
              <a:rPr sz="47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12 o’clock</a:t>
            </a:r>
            <a:br>
              <a:rPr sz="9600"/>
            </a:br>
            <a:br>
              <a:rPr sz="4700"/>
            </a:br>
            <a:br>
              <a:rPr sz="47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64080" y="3406680"/>
            <a:ext cx="15840" cy="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700"/>
            </a:br>
            <a:br>
              <a:rPr sz="47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4 o’clock</a:t>
            </a:r>
            <a:br>
              <a:rPr sz="9600"/>
            </a:br>
            <a:br>
              <a:rPr sz="4700"/>
            </a:br>
            <a:br>
              <a:rPr sz="47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64080" y="3406680"/>
            <a:ext cx="15840" cy="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700"/>
            </a:br>
            <a:br>
              <a:rPr sz="47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9 o’clock</a:t>
            </a:r>
            <a:br>
              <a:rPr sz="9600"/>
            </a:br>
            <a:br>
              <a:rPr sz="4700"/>
            </a:br>
            <a:br>
              <a:rPr sz="47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64080" y="3406680"/>
            <a:ext cx="15840" cy="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700"/>
            </a:br>
            <a:br>
              <a:rPr sz="47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half past 1</a:t>
            </a:r>
            <a:br>
              <a:rPr sz="9600"/>
            </a:br>
            <a:br>
              <a:rPr sz="4700"/>
            </a:br>
            <a:br>
              <a:rPr sz="47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64080" y="3406680"/>
            <a:ext cx="15840" cy="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700"/>
            </a:br>
            <a:br>
              <a:rPr sz="47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half past 3</a:t>
            </a:r>
            <a:br>
              <a:rPr sz="9600"/>
            </a:br>
            <a:br>
              <a:rPr sz="4700"/>
            </a:br>
            <a:br>
              <a:rPr sz="47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64080" y="3406680"/>
            <a:ext cx="15840" cy="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6T11:45:00Z</dcterms:created>
  <dc:creator>TEACHER</dc:creator>
  <dc:description/>
  <dc:language>en-US</dc:language>
  <cp:lastModifiedBy>Staff</cp:lastModifiedBy>
  <dcterms:modified xsi:type="dcterms:W3CDTF">2006-02-27T08:08:06Z</dcterms:modified>
  <cp:revision>2</cp:revision>
  <dc:subject/>
  <dc:title>Make these times on your clocks!    </dc:title>
</cp:coreProperties>
</file>