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54B-9BDE-4A7A-811F-71391720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006-BD7B-4408-A792-0B101ED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C90-270F-4BB1-80BF-541B52AB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AA7-95CA-4078-87DF-4B2AE72F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802-60A5-455A-88F3-5AA4E1DC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4C9-BC20-44EE-B0AD-8087E51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EEF-AF9C-4286-B5CD-C680712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BA4-C438-406D-9AC3-8856B88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AFA-564A-4754-A98D-7FAF872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3F9-A96D-4C15-A911-6EB7445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7B1-C158-412B-B05D-1251A6B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A1F-D725-4FCD-BC15-107652F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3CC-1C78-4CB8-B364-4B0FCC08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What time is it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284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2:22:18Z</dcterms:created>
  <dc:creator>TEACHER</dc:creator>
  <dc:description/>
  <dc:language>en-US</dc:language>
  <cp:lastModifiedBy>Staff</cp:lastModifiedBy>
  <dcterms:modified xsi:type="dcterms:W3CDTF">2005-11-16T07:47:02Z</dcterms:modified>
  <cp:revision>1</cp:revision>
  <dc:subject/>
  <dc:title>What time is it? </dc:title>
</cp:coreProperties>
</file>