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9FA-8CC7-4B86-B0C1-AD21B9A0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FC4-8254-4964-AB1B-59CC491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A09-F14C-4F3C-8589-15EE2633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B1C-EC22-4D44-A651-C714BFB3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E69-22F3-4460-9CCA-C663863C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DE9-3397-4BD0-A3D8-CDAD264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486-CBF2-4727-89F8-70FAB479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92C-35E0-4801-B480-7639F1F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EEB-64F9-49F1-823B-BE3783A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14D-BBB1-480E-8E0D-6088A20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AD2-442B-486F-B1A7-116F787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C7D-BDF5-4B2D-97DA-38F7BFB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D20-645C-49EE-BC0A-A8144BC6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People Who Help 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e a tally chart of the people you 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054160" cy="27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200016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22334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2111400" cy="28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9640" y="2781360"/>
            <a:ext cx="2233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id you watch carefull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st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lice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vets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firemen did you see?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doctors did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48564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665280" cy="885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2924280"/>
            <a:ext cx="544320" cy="72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665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atch carefull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20:55Z</dcterms:created>
  <dc:creator>TEACHER</dc:creator>
  <dc:description/>
  <dc:language>en-US</dc:language>
  <cp:lastModifiedBy>Staff</cp:lastModifiedBy>
  <dcterms:modified xsi:type="dcterms:W3CDTF">2007-01-17T07:41:28Z</dcterms:modified>
  <cp:revision>1</cp:revision>
  <dc:subject/>
  <dc:title>People Who Help Us!</dc:title>
</cp:coreProperties>
</file>