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3C8-47AD-40AF-9923-403940C8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794-2CE2-4526-96A3-AF5532CD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D38-FEC4-4BAC-8A74-8FF258AF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F94-F327-4DF1-A24E-70652FD5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905-1D1D-43A8-BB42-5C831A1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49A-F114-4B8D-AD6C-189AE37C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38C-683B-41B1-92EC-833EBED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7BB-A7BB-4227-B74A-6248A06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718-470C-4514-AEC7-2C3ED75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537-8932-4BA9-8E87-47A0AFD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779-5977-478C-8802-9310EC9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E18-68C5-45C0-BB02-3E6789F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B45-F210-4E0E-AB32-3993524F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ke a tally chart to record the different coloured cars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-316080"/>
            <a:ext cx="6553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08 -0.04325 L -3.05556E-006 3.27475E-006 E">
                                      <p:cBhvr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802E-007 L 0.84271 -6.93802E-007 E">
                                      <p:cBhvr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1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atch carefully!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nt how many of each colour car you saw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7:15:01Z</dcterms:created>
  <dc:creator>TEACHER</dc:creator>
  <dc:description/>
  <dc:language>en-US</dc:language>
  <cp:lastModifiedBy>TEACHER</cp:lastModifiedBy>
  <dcterms:modified xsi:type="dcterms:W3CDTF">2008-02-05T17:26:09Z</dcterms:modified>
  <cp:revision>9</cp:revision>
  <dc:subject/>
  <dc:title>Slide 1</dc:title>
</cp:coreProperties>
</file>