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33B-6898-44F4-8C50-1472A90D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618-B6EF-4AF0-BB38-FBF50E1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0A1-DDBF-4B8D-96C4-6379E547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3A6-F885-449B-B492-BA40E133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FFD-E588-4EBC-8545-A203D930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C8E-AD2A-4268-83C9-F05B46BF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8B7-9EB0-4F3A-91C2-537F652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5FC-118A-49C4-BABC-6BD7ACF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A89-9956-42F6-990F-C2D9130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3AF-7A03-42D8-B2F3-5A26089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508-224C-4B06-BD2A-8FE9BC1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9FA-56A6-4A2D-AE03-5B0A5D8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F6D-BB52-4D38-A1E5-D8D34580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in 10s to 10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0:04:09Z</dcterms:created>
  <dc:creator>TEACHER</dc:creator>
  <dc:description/>
  <dc:language>en-US</dc:language>
  <cp:lastModifiedBy>Staff</cp:lastModifiedBy>
  <dcterms:modified xsi:type="dcterms:W3CDTF">2006-01-30T07:49:27Z</dcterms:modified>
  <cp:revision>1</cp:revision>
  <dc:subject/>
  <dc:title>Counting in 10s to 100!</dc:title>
</cp:coreProperties>
</file>