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FB58-09A2-4BAD-BF9B-AE8F8896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DB6-485B-4883-89F1-EA81B085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BDC-C6A8-430E-8E2B-38D7C2FE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DE66-20DE-4A05-96F7-6F3E8E40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167-B123-4761-AC20-0B82D6AB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4962-5BD3-460A-AB4D-BA74E3F6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7EE-5591-4D07-81CB-B0B6C431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85F-CE3C-4556-9A84-BF0B758B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C120-C69E-4E92-9E92-139A420C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E4DB-7F76-4DB0-A711-16097949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023C-E896-435A-A14F-A2B07DD7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C653-208F-47D8-BD06-A1C6EE38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9425-0C72-4B61-B6C2-95AE5CF84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in 3s to 3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21:50:50Z</dcterms:created>
  <dc:creator>TEACHER</dc:creator>
  <dc:description/>
  <dc:language>en-US</dc:language>
  <cp:lastModifiedBy>TEACHER</cp:lastModifiedBy>
  <dcterms:modified xsi:type="dcterms:W3CDTF">2008-05-29T09:15:16Z</dcterms:modified>
  <cp:revision>4</cp:revision>
  <dc:subject/>
  <dc:title>Counting to 25!</dc:title>
</cp:coreProperties>
</file>