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C169-05F0-4A40-B6A1-2A91ADF38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06CA-2F32-4A9C-8A48-644266A2F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63C9-39DB-4924-81A1-17C298B6B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44B0-2D9D-4C13-8B6F-9572AF7E3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AF19-9A03-4E0A-86E5-7E09F8563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D30B-5C78-4961-8E16-D2E19D394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7923-FB45-4E89-8296-0A1E5540A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F7BE-A2B3-4E27-85A2-C1AC97528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1049-773A-453A-84E9-6D91AD75A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347D-EA8B-4E4E-B2DD-3ABB8AE5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704B-F7D7-4926-90F1-392EDC7B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0D63-9C09-48C7-9505-A0803E9E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2D487-C931-4D10-BDE6-13E18E564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j0214098.wav" TargetMode="External"/><Relationship Id="rId2" Type="http://schemas.microsoft.com/office/2007/relationships/media" Target="file:///tmp/home/.config/libreoffice/4/user/gallery/j0214098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Counting to 20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5761080"/>
            <a:ext cx="9144000" cy="183805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92360" y="189000"/>
            <a:ext cx="662472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000000"/>
                </a:solidFill>
                <a:latin typeface="Arial"/>
              </a:rPr>
              <a:t>Well done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4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1T21:50:50Z</dcterms:created>
  <dc:creator>TEACHER</dc:creator>
  <dc:description/>
  <dc:language>en-US</dc:language>
  <cp:lastModifiedBy>Staff</cp:lastModifiedBy>
  <dcterms:modified xsi:type="dcterms:W3CDTF">2006-02-21T08:35:54Z</dcterms:modified>
  <cp:revision>2</cp:revision>
  <dc:subject/>
  <dc:title>Counting to 25!</dc:title>
</cp:coreProperties>
</file>