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458-8E07-41CB-9BE7-1BA34892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6C3-3488-43F0-A714-9B1E114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701-8641-4F09-97E4-BB110862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F3C-C90A-45D5-BBF2-05153F34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4A5-8EA0-4B78-A0E7-79F440B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052-4FB6-4FDB-829F-22B00394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61F-046D-4B5C-8CBE-477E7B6B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B3F-A378-48FE-BF2E-84089422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B22-F135-48CD-A2C0-45ED0CB1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690-CF4D-45F8-BFFC-A12034F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A64-248D-4F6F-82F9-A027384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555-5DF8-436B-8D5A-B6220756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7B55-9F11-4FE1-BF01-B655943AC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TEACHER</cp:lastModifiedBy>
  <dcterms:modified xsi:type="dcterms:W3CDTF">2008-05-29T09:12:42Z</dcterms:modified>
  <cp:revision>3</cp:revision>
  <dc:subject/>
  <dc:title>Counting to 25!</dc:title>
</cp:coreProperties>
</file>