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AB3C-0F99-4DF9-8564-E1B60935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FC6E-AE3B-4883-9D3D-151192EB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5D66-4E6D-4BAA-BBAB-E624E72C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9BC-CA63-4B56-B766-8F015961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6CB-B28F-4976-B05E-65FDC95B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E1C0-C8A1-4A6F-A7E3-DC165784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A0E8-3F69-4EB2-996B-E52F6DB1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5AC6-8073-422F-AD06-CC4BB19D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7C51-E0BE-494D-8716-535665D5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A621-0B32-4CC6-9537-3F20B888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7B2E-3D16-430A-81DE-89B81E9D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270F-A7E5-4774-929D-FAF1CA9A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0765-1E18-4117-9BE7-79F111945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Counting 10 and back to 0! 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5:34:36Z</dcterms:created>
  <dc:creator>TEACHER</dc:creator>
  <dc:description/>
  <dc:language>en-US</dc:language>
  <cp:lastModifiedBy>TEACHER</cp:lastModifiedBy>
  <dcterms:modified xsi:type="dcterms:W3CDTF">2005-11-30T15:40:24Z</dcterms:modified>
  <cp:revision>1</cp:revision>
  <dc:subject/>
  <dc:title>Counting 10 and back to 0!  </dc:title>
</cp:coreProperties>
</file>