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DF5-9C09-484F-B748-91839F4C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550-2F9D-4725-91BB-C70BDB61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3D2-6D6E-496B-A552-674A9AF8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F8A-DD93-42E4-830E-8FB43228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E82-B8CF-41B4-B80D-29E97060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31A-6643-4756-92FA-696CDF1B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D0E-6337-4140-853A-B043AD78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258-9B7D-4F14-9E9C-226B70BD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F14-F5DB-4351-80A6-499C7BFA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420-E88F-41DD-B5A1-F44E1878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F21-BBDF-4B63-A3B4-6F79FF3C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BB6-C175-4D2E-9A90-526B83E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9CC0-BD12-46C3-9E3A-D4BCF7278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Counting in 10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850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0:50:16Z</dcterms:created>
  <dc:creator>TEACHER</dc:creator>
  <dc:description/>
  <dc:language>en-US</dc:language>
  <cp:lastModifiedBy>Staff</cp:lastModifiedBy>
  <dcterms:modified xsi:type="dcterms:W3CDTF">2007-01-17T07:40:27Z</dcterms:modified>
  <cp:revision>1</cp:revision>
  <dc:subject/>
  <dc:title>Counting in 10s</dc:title>
</cp:coreProperties>
</file>