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5DEE-D7C8-4F10-BA22-7C56390A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1D09-79F4-4D9F-952F-2318E046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AEE7-C2E5-49FF-8D37-F33F5F6A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B11-AEEB-41AC-9395-C9CE6CDD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0206-22DC-440A-B23C-67849DD3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D421-4B82-4F8E-93B4-9E148620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771A-4619-41B4-93CB-1569AD74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BBAA-E64A-4F61-95B3-5884AD50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87F2-25C5-44F2-B65D-D52AA11E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F851-D419-450B-A3F1-11B6B1A5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DE04-785F-49ED-8E03-69EAB3ED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344F-3828-4E7D-B2D5-407380FB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96B7-6337-4D67-B080-37E12D1FF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Counting d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7:51:06Z</dcterms:created>
  <dc:creator>Staff</dc:creator>
  <dc:description/>
  <dc:language>en-US</dc:language>
  <cp:lastModifiedBy>Staff</cp:lastModifiedBy>
  <dcterms:modified xsi:type="dcterms:W3CDTF">2005-11-24T07:56:11Z</dcterms:modified>
  <cp:revision>1</cp:revision>
  <dc:subject/>
  <dc:title>Counting down</dc:title>
</cp:coreProperties>
</file>