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05A-6220-4A7B-BC1E-13FCAC88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191-2AF0-4C29-88B3-95E105D3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850-4F53-4004-9178-982B2610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E7F-0F6B-4AA0-89AB-BF5F1C03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5E6-302D-4C02-86D3-41F7F1A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AED-42F5-4C15-BD0C-EB4E3DD9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6E2-DE1A-4212-9114-40FC074B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704-9567-41E8-8EDC-2EFCF389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0FC-645A-4B22-89BF-5E13728B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38D-9B47-48E0-AB47-96A6572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A1F-72A1-42D5-836F-27107A0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C46-5FB7-4B92-B838-6494558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E2C4-8113-40F3-91FA-E0DBBFDFD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2s to 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6:52:09Z</dcterms:created>
  <dc:creator>TEACHER</dc:creator>
  <dc:description/>
  <dc:language>en-US</dc:language>
  <cp:lastModifiedBy>TEACHER</cp:lastModifiedBy>
  <dcterms:modified xsi:type="dcterms:W3CDTF">2005-11-19T16:52:36Z</dcterms:modified>
  <cp:revision>1</cp:revision>
  <dc:subject/>
  <dc:title>Counting in 2s to 20</dc:title>
</cp:coreProperties>
</file>