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509-9C12-4A47-BF77-5B5DDA90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E01-01BE-4CBB-9A25-EA5027E9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551-D1E8-4CE2-91B0-0A75C56B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A26-9C32-4250-90A2-9A49BDA1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A38-8DCD-448A-BC8C-CC43B4D4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90B-FDA7-40A3-84DE-7533EF87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5FD-EF63-4321-933D-DDC540A0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563-D5EB-41F0-AB6E-E2612B75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D1B-09C0-4A77-A6B1-548F2C1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37D-D2A7-44B9-ACC0-69284D07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220-766D-47AA-8AB0-F55B7091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D57-2640-4CB8-864F-DF72AA1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72B2-94CB-4829-B0D6-2E199A00F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ffcc"/>
                </a:solidFill>
                <a:latin typeface="Arial"/>
              </a:rPr>
              <a:t>Counting down!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99ffcc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74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2:25:31Z</dcterms:created>
  <dc:creator>TEACHER</dc:creator>
  <dc:description/>
  <dc:language>en-US</dc:language>
  <cp:lastModifiedBy>Staff</cp:lastModifiedBy>
  <dcterms:modified xsi:type="dcterms:W3CDTF">2006-01-23T07:56:05Z</dcterms:modified>
  <cp:revision>2</cp:revision>
  <dc:subject/>
  <dc:title>Counting down! </dc:title>
</cp:coreProperties>
</file>