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0BF-7D7B-4D93-96DD-42229446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E24-DD51-4073-B765-EE8E07B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C2F-6E75-4E56-B0E4-071347CD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1EE-B82B-496F-A1E8-E3BE99A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63C-28FE-4942-914E-C4E9BA78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0AB-D4F8-4ACB-BC92-FEF67590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CE-FA5C-407F-A599-5874C0FC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5EF-2617-408C-B807-ACC69845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C50-D8DA-4F87-B47B-8FCB0E5D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7E6-E553-47A3-8F3A-0770CFA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460-8507-4A27-879F-629CA0B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370-07D1-4E1B-9FF2-7D2660A6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119-429F-49CD-8F24-DB15D31C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9900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99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5-12-12T08:17:50Z</dcterms:modified>
  <cp:revision>1</cp:revision>
  <dc:subject/>
  <dc:title>Counting down! </dc:title>
</cp:coreProperties>
</file>