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CB13-9A22-4D3F-84EF-3DF8585C3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FFFC-CD30-4A8D-AC52-B8DDA2DC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A871-6D8B-47AF-9B8F-9BDFEF896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51DF-CB23-4530-B708-C8EB25E01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FE1A-74B7-42DD-8DAE-959D6F36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0323-5BA3-415F-87C5-33AEC8D4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B2AE-20C6-4FB1-B47C-EE3BA09C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09E7-08A2-43E4-B4D8-C348FB43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432C-BB5D-4F93-808C-FE803CB0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D77B-B18B-4A6A-9D0E-BA38187C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EECF-30CA-4779-85C9-D2570101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B4A7-B382-4C34-AEAB-535E7AB9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90F0-AC20-43E6-A649-24CE77E5D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Counting to 10 and back to 0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5761080"/>
            <a:ext cx="9144000" cy="18380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189000"/>
            <a:ext cx="662472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ff"/>
                </a:solidFill>
                <a:latin typeface="Arial"/>
              </a:rPr>
              <a:t>Well done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4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1592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07:57:38Z</dcterms:created>
  <dc:creator>Staff</dc:creator>
  <dc:description/>
  <dc:language>en-US</dc:language>
  <cp:lastModifiedBy>Staff</cp:lastModifiedBy>
  <dcterms:modified xsi:type="dcterms:W3CDTF">2005-12-05T08:02:24Z</dcterms:modified>
  <cp:revision>1</cp:revision>
  <dc:subject/>
  <dc:title>Counting to 10 and back to 0!</dc:title>
</cp:coreProperties>
</file>