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A133-A76B-4F75-AEC4-1532AB38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D27-CB69-4EE1-8E36-8E7E8DF7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898-714F-44B3-8049-2932AEA8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C770-64EF-4862-8D28-1F2CE16C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3B49-E3A9-472A-90C1-D48225B1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E04D-B4D5-43CB-B6E2-170067B9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5B5-1F56-4B7D-A954-21FA34ED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8E0-CCA0-4276-916E-C0AAF229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AF43-8010-444A-92F9-EFDC3A88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F03-EF31-4DCE-BC99-BDE651F8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728-47F2-4F64-9F01-B84FFD33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FB7-27A1-4813-AA56-6AC765F2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FC14-A9DF-468C-873A-18E0CA3E9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to 25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21:50:50Z</dcterms:created>
  <dc:creator>TEACHER</dc:creator>
  <dc:description/>
  <dc:language>en-US</dc:language>
  <cp:lastModifiedBy>Staff</cp:lastModifiedBy>
  <dcterms:modified xsi:type="dcterms:W3CDTF">2006-01-09T15:36:48Z</dcterms:modified>
  <cp:revision>1</cp:revision>
  <dc:subject/>
  <dc:title>Counting to 25!</dc:title>
</cp:coreProperties>
</file>