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82F-14C8-464F-91D1-65195E62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078-8421-415A-A4E6-A0528DC9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004-C847-4225-9431-52CF9681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800-E103-43CE-B67B-832A0503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0B35-F150-4EDA-97DB-3CB04B6B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C64B-EEE2-4160-AF1C-25F86093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D7CC-825F-41A0-9652-A9A80B97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B424-1C80-43F0-ACCE-2EA986AB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297C-F006-4FD3-9C48-A5AA2465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74B3-F463-41D8-9E3D-3F1E1EEE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219D-8E31-4664-A252-82342E06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3CE-0EC6-466B-8AAA-18006606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4E5A-A13D-46A5-A61A-0EB8A89D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1462-7A91-486B-8E71-7D38C66F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8F0F-B882-4126-A319-D67F6DAB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EBF8-2CE6-4ADE-BEAA-2171F03B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B7C3-8852-4B99-BC91-1EEA1505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CED-CA69-48E1-9005-C3EE9E3C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55B-AD1E-4A03-AD48-B101F9BB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4B3-3B1D-4542-9B1D-F365A969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576-AA15-4D94-8CE4-23784E9E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E8B-1430-4D93-96AA-E35FACB6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AD9-5E86-44F9-B12F-95959C55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488-71E5-4A83-A8B9-E40DDB53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A1A1-1ED0-4901-ABEF-74A702A539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FF29-1698-4706-9409-FF6A134A47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58920" y="2565360"/>
            <a:ext cx="6767640" cy="20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Add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4 + 2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5 + 2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4 + 3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5 + 4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5 + 5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8 + 2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8:38:40Z</dcterms:created>
  <dc:creator>TEACHER</dc:creator>
  <dc:description/>
  <dc:language>en-US</dc:language>
  <cp:lastModifiedBy>Staff</cp:lastModifiedBy>
  <dcterms:modified xsi:type="dcterms:W3CDTF">2006-05-16T09:58:38Z</dcterms:modified>
  <cp:revision>1</cp:revision>
  <dc:subject/>
  <dc:title>Slide 1</dc:title>
</cp:coreProperties>
</file>