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F18A-5D6F-479E-9831-A9C7310BA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3598-6157-4CD1-B9C5-57F7BDD2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7D13-506A-4119-8392-3221E3FB3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8C62-A270-4517-B801-002CADDE3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C0DA-F491-45B6-838E-90CC7EAA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BFC1-9C29-4FE3-BF37-3C6C1A54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0BAC-217F-4FFF-A722-339BBF6D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C763-F75C-4FCE-825E-1F67BDFC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CB9A-5886-4C01-81A1-B3394F97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7D1D-E521-4384-9D53-86F7C8F9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19AD-84C8-4400-867E-597D5EBA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06C7-A490-4F8F-BDD0-5450CC50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BF9E-D8AA-4425-A8D0-DF121548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BAA9-AE2B-453D-8CCA-3456689D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4801-5BCD-4893-A410-7BB5660C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BC5F-1861-4178-BD98-898C6C467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2078-E260-4F9F-8E2E-01599A0F0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67F9-1FDE-4761-8001-B2F6E623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D891-493E-4E9A-A006-5A9EFD7F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30BF-E897-4BA0-A6D5-8500F3BC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EB67-263F-4CA5-BCB6-F44CE30E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08A2-0F37-4CB6-8E29-C19D197B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1F3E-D6C1-491A-88F4-7986E348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4CFD-CEE2-4772-81C0-6B3591E5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7B30-DF1F-4CB4-890C-6F277A647AF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7295-E06A-49E2-B2CB-649A4494380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1280" y="52308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aking away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4 -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6 - 2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9 -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4 - 3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0:25:20Z</dcterms:created>
  <dc:creator>TEACHER</dc:creator>
  <dc:description/>
  <dc:language>en-US</dc:language>
  <cp:lastModifiedBy>TEACHER</cp:lastModifiedBy>
  <dcterms:modified xsi:type="dcterms:W3CDTF">2008-06-02T20:09:52Z</dcterms:modified>
  <cp:revision>4</cp:revision>
  <dc:subject/>
  <dc:title>Adding!</dc:title>
</cp:coreProperties>
</file>