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ADA-64E3-4942-897B-FC3EEA38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AB4-5E84-4E45-B4E0-9A8D3627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312-E7F9-4280-9F6E-68B0F27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EF2-CE39-43C7-8AD2-0143E184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CEE0-0616-4761-89E4-B606D34E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14BD-8E3C-4BC4-8A12-E4BD5C3B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DC89-9E58-4973-A484-11723C4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A591-5AA0-48E9-B0E1-37E9311F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A63-D17C-442C-90EF-F3A10A83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82B-CF8D-49A9-AA7D-6D34EFE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272-89E3-4DCC-895E-77622BB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DAE-84D6-4355-A4A4-2BFFE5F5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B52-4A54-4F61-ADCE-17BE25B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DDDA-B7D8-4AED-AC2F-3E5DD84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E44-92EC-458E-A33B-2A89FAA2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20B-3D93-4542-A985-ED6F6691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4670-365B-41D3-A141-FC044EE4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C65-1CCA-453C-99FA-A5F8040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307-27C0-4E49-BBB9-DE8B710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3DE-AC56-4AAF-9768-730C2B55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AC2-D1A5-4093-A55A-7AF9932C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B7C-EE82-4735-AEB5-BAB614E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0DE-CF61-461C-A232-E0594540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58F-3826-46B1-8423-FB09945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7C2-536D-4E7D-8E67-D2DC10E9FA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DF79-FECC-4F3A-A7EB-89E403D470C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and 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4-03T10:59:12Z</dcterms:modified>
  <cp:revision>2</cp:revision>
  <dc:subject/>
  <dc:title>Adding!</dc:title>
</cp:coreProperties>
</file>