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858-070B-46EE-93F9-763227FF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DF3-553D-4ED4-9381-0230A9A5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080-627B-4A49-9958-7513239F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5B8-A865-4935-8A86-99E7944B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2795-FB47-42BD-8147-7BAE29A7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1EF6-9C1F-40F7-9584-4987B993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BD96-3B0C-42A6-8DFB-7C9CDF97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C096-EA95-4A9D-823B-06F49D8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8878-AE05-45F6-8BC8-2A50CA77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85E-DEC6-444D-9340-759BA6E6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3FEC-425D-453F-843C-CD717D16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6CC-A3A4-4309-8F75-4A5F3E6C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6F73-0B10-471E-A5AA-BEE4CE7F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AC0F-7246-44CE-BCC4-4AAFF44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8C16-F96E-44B9-9049-C7B6FDF7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20F7-959E-4927-B4EC-D7AD471C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41C8-350A-499B-AEB7-2129B9D1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224-40B2-4221-9881-07CA2D69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A16-E9FF-4082-9D65-FBA4E4CD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955-D72C-46C3-84A4-1E8E4A67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732-5C3C-40FB-A849-AD789D92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A5C-C72C-4970-B358-40C486CA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06A-CC3B-4A45-84EA-E8D9DE3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D7C-DC61-4820-A2C9-7395140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9385-48CF-4F91-BBB8-3C68E3F4A4B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D92B-14CE-48DA-B348-E5865CB2634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-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9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Staff</cp:lastModifiedBy>
  <dcterms:modified xsi:type="dcterms:W3CDTF">2007-06-18T15:37:13Z</dcterms:modified>
  <cp:revision>4</cp:revision>
  <dc:subject/>
  <dc:title>Adding!</dc:title>
</cp:coreProperties>
</file>