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93E-A6DF-4DDC-8945-9C3FCE47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BEC-9854-4D87-A578-B528C338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D4D0-EB91-4559-A701-1D75A2E9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C85-02B5-4683-AAF0-642851B0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8848-1111-45CF-A910-791E95F3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7EC-ABA9-4B1F-B84D-BA4DFD75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D149-FF8F-42EF-94C3-FBE99C50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9C9-5DDC-4F6F-AB84-9626ACE5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BC9-EBB7-47C4-A565-B2672D8B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804-E411-4D6E-9EF9-5FF298B7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D76-B286-417A-873D-809D7B72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D017-7930-4FE6-BA9C-08D498CC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3C87-80AD-4050-A34D-AEC17C2B6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78469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Adding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Taking Away!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7 – 1 =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4 + 2 =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5 – 2 =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Arial"/>
              </a:rPr>
              <a:t>2 + 2=</a:t>
            </a: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0" spc="-1" strike="noStrike">
                <a:solidFill>
                  <a:srgbClr val="000000"/>
                </a:solidFill>
                <a:latin typeface="Arial"/>
              </a:rPr>
              <a:t>6 – 1 =</a:t>
            </a: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4 – 2 =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0:10:57Z</dcterms:created>
  <dc:creator>TEACHER</dc:creator>
  <dc:description/>
  <dc:language>en-US</dc:language>
  <cp:lastModifiedBy>TEACHER</cp:lastModifiedBy>
  <dcterms:modified xsi:type="dcterms:W3CDTF">2006-06-20T10:11:06Z</dcterms:modified>
  <cp:revision>1</cp:revision>
  <dc:subject/>
  <dc:title>Adding  and  Taking Away! </dc:title>
</cp:coreProperties>
</file>