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3CD-F1EC-403E-BEF6-1232FC18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E72-6AA5-440D-9E77-179CE705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1E2-4202-4F02-80DC-4646666A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92E-791D-4F88-A03D-CBA9316B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90BC-45A6-4E99-839F-D71CE380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CB73-35F8-42C0-8524-572A303D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0962-FE8A-4B33-8BEB-D71D6115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63D0-8438-420B-806E-9DD96A8D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A79C-2CB3-4DF2-93A0-21C7AF0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3CAE-8C8F-4413-AB43-34432C9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F720-FE72-4642-BE63-928863C4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BCF-FB8D-4395-AA38-491ACEF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4E05-8938-4333-9E8B-8481D2D7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A4D-A7F4-4846-B7A2-BB343C31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90D6-FC8F-4A1C-B8B4-E5FDB031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84EC-C373-4E58-9041-3D62012D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076D-F8BE-4FC7-AC98-68E13D0F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280-A80C-4156-BACE-B45DC4CF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0FC-C913-40F6-90B9-E19AD959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5A6-CB20-4FD6-B018-10970731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32A-F75D-4004-9769-0F445F4E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6FB-BF25-420C-B4CD-3020EE0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600-F664-47CC-8721-C1A9E73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0DF-F56C-4036-B705-745AE51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24FB-3D2B-4E62-823B-EA11ADFBD75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DD0-7CAC-493C-AF82-4BCFB9661A7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8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6-03-21T10:29:01Z</dcterms:modified>
  <cp:revision>1</cp:revision>
  <dc:subject/>
  <dc:title>Adding!</dc:title>
</cp:coreProperties>
</file>