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6A0-679E-49DD-B731-83805F8E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208-3D29-467D-85D1-10380A49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084-219B-4B41-A760-A9ACD4E7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096-4429-479F-92B6-ECADACD9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21E8-ED19-4145-B380-39F2B53C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8AA4-C70C-4555-9D7C-84C4CC1E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9433-FBA1-4B15-9E51-EA672F16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11CE-87DF-47EB-9268-2938F173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8102-0534-4C90-85DB-BC807039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DBC4-F2D2-4D08-BF09-ED7311A1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8C2D-AF6F-45E2-A512-0D6F8603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FC3-818C-46A7-99E7-58742E71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ACED-313D-420B-8A9E-3AE4700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7E71-70C2-4E25-89D1-F660467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BC64-619A-4E52-B092-1B9AB1F0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47D3-DBA5-4FEB-BB9B-A870FC68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4702-4DBF-4EFE-8917-DD89170D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ABA-8CB5-4525-A80A-20F7D3F1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BFA-D76F-4630-96B1-34D2FFD0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08A-EF67-4F91-8A7A-D8954096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603-8CA0-474E-BCF0-9AFBE64F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B4A-80D7-4D71-808B-2CF41EB5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B46-6D04-4319-B791-D155097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F18-A542-483F-B2B9-3C0763A9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F4AF-8AE1-4438-AE6E-80040D09FAE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50E5-1321-430D-A5B6-E399380C094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5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2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7-09-23T20:49:28Z</dcterms:modified>
  <cp:revision>3</cp:revision>
  <dc:subject/>
  <dc:title>Adding!</dc:title>
</cp:coreProperties>
</file>