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95B6-1BA0-476C-94F8-572CE80BD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4243-D964-43C8-B249-9C6C2AA24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0B5F-7A67-4A06-807B-A3039FF83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5C1B-0427-48F3-835E-0B9D8D972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5D334-6127-47F2-9CAC-3D02CE643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92CFB-D9F1-4553-8ED5-BCDBB1941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8A9C2-ACDA-4511-B191-427E069C6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918A1-1F0F-4D12-BAA4-B8480C3D5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F03AB-4303-405F-81DE-263A3C2CD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DF878-845F-4646-90C3-CA6CCA1C4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606AA-E577-45B7-A8FA-1A0660B9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D4AB-DDD2-4497-9C63-A9A5A9BF0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6093C-8D78-4113-9E15-610D1B7B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EF11A-01B5-4DF1-BB4F-62EFD7FD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0FC41-00E2-4524-99B1-E79E012BA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40DE4-A966-45CA-BC20-CFBB9CFAD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45C68-2A43-4E0D-92CC-BD1FD0BA5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D5C4-B774-4D7B-AE38-F323AF034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7ADD-427C-4693-82FF-07B9F2AE5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A63D-B095-4788-89D4-1411FB9A4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2E6F-55B2-41FD-9726-52EC97E85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95B3-0051-4D29-8C1C-4017A324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842D-1161-45F4-901A-323DDDBB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F1F5-3E6C-4E4D-B2A3-30316366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DDD65-9A83-4D71-B78F-EDF9AD75CE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2739C-4368-4A56-ABC7-8A98F5C343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475920"/>
            <a:ext cx="78469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b7e7ff"/>
                </a:solidFill>
                <a:latin typeface="Arial"/>
              </a:rPr>
              <a:t>Taking Away!</a:t>
            </a:r>
            <a:r>
              <a:rPr b="0" lang="en-GB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ffffff"/>
                </a:solidFill>
                <a:latin typeface="Arial"/>
              </a:rPr>
              <a:t>7 – 1 = </a:t>
            </a:r>
            <a:endParaRPr b="0" lang="en-US" sz="2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1365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468" autoRev="1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08" fill="hold">
                                          <p:stCondLst>
                                            <p:cond delay="2592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ffffff"/>
                </a:solidFill>
                <a:latin typeface="Arial"/>
              </a:rPr>
              <a:t>4 – 2 = </a:t>
            </a:r>
            <a:endParaRPr b="0" lang="en-US" sz="2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365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468" autoRev="1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408" fill="hold">
                                          <p:stCondLst>
                                            <p:cond delay="2592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ffffff"/>
                </a:solidFill>
                <a:latin typeface="Arial"/>
              </a:rPr>
              <a:t>5 – 2 = </a:t>
            </a:r>
            <a:endParaRPr b="0" lang="en-US" sz="2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365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468" autoRev="1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08" fill="hold">
                                          <p:stCondLst>
                                            <p:cond delay="259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0" spc="-1" strike="noStrike">
                <a:solidFill>
                  <a:srgbClr val="ffffff"/>
                </a:solidFill>
                <a:latin typeface="Arial"/>
              </a:rPr>
              <a:t>10 – 2 =</a:t>
            </a:r>
            <a:r>
              <a:rPr b="0" lang="en-GB" sz="20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365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468" autoRev="1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408" fill="hold">
                                          <p:stCondLst>
                                            <p:cond delay="2592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0" spc="-1" strike="noStrike">
                <a:solidFill>
                  <a:srgbClr val="ffffff"/>
                </a:solidFill>
                <a:latin typeface="Arial"/>
              </a:rPr>
              <a:t>11 – 1 =</a:t>
            </a:r>
            <a:r>
              <a:rPr b="0" lang="en-GB" sz="20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1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365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468" autoRev="1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408" fill="hold">
                                          <p:stCondLst>
                                            <p:cond delay="2592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ffffff"/>
                </a:solidFill>
                <a:latin typeface="Arial"/>
              </a:rPr>
              <a:t>4 – 3 = </a:t>
            </a:r>
            <a:endParaRPr b="0" lang="en-US" sz="2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2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365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468" autoRev="1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08" fill="hold">
                                          <p:stCondLst>
                                            <p:cond delay="259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09:48:19Z</dcterms:created>
  <dc:creator>TEACHER</dc:creator>
  <dc:description/>
  <dc:language>en-US</dc:language>
  <cp:lastModifiedBy>TEACHER</cp:lastModifiedBy>
  <dcterms:modified xsi:type="dcterms:W3CDTF">2006-04-11T09:57:00Z</dcterms:modified>
  <cp:revision>1</cp:revision>
  <dc:subject/>
  <dc:title>Taking Away! </dc:title>
</cp:coreProperties>
</file>