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872-F3AA-4958-94A5-F5D86370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427-54AC-4EB8-A427-C2455A4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28E-7945-4EC4-B39B-EF006D19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FFB-2C3F-4BAF-9733-B6EFB372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F7C-C629-4D2E-8356-2A38B013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306-B22A-4B8D-A544-7676223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4A9-EC02-4354-9EE6-4255F78C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E59-E7B0-4174-9991-79CD3A7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FF4-111B-4DA4-B1B4-4E3F337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6AD-F207-49A4-8667-DED6EE8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32B-2A49-450D-97A9-479FBE1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775-52C7-431C-A04D-2A11C745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BAC-48A1-45CA-9B20-6AE29EAC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anges 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uld be interesting if you could discov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your family has lived in th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ight be able to make a map to s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y have moved, to find some phot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s, similarities and differences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them and why they 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a small group of others to design a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and How to Survive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should include some way of showing how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feels and also some strategie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make a “Problem Box” where you may put a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you can think of to do with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have enough some of you could gi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s using the problem-solving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you are doing this don’t forge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ing together self-review 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you could complete at the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040" y="317520"/>
            <a:ext cx="781848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hink abou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things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ve you learned from thinking abou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life and how you cope with difficul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has what you’ve learned changed the w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think about or understand th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765000"/>
            <a:ext cx="8713800" cy="512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this theme you should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you would feel if a change that you didn’t want to happen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ed on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of the reasons that change can feel uncomfortable and sc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how it feels to belong to a group and know it is important for ever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that what we feel and think affects what we do (how we beha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y you behave as you do when you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understand why other people are behaving as they do w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finding a change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 some ways of dealing with the feelings that sometimes arise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9720" y="476280"/>
            <a:ext cx="7864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that what we feel and think affects what we do (how we beha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tell you why I behave as I do when I am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sometimes understand why other people are behaving as they are when they are finding a change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know some ways of dealing with the feelings that sometimes arise from chang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ememb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a link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e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E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how we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BE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fe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omfor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becaus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ay behave in 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O.K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LL FEELINGS ARE O.K</a:t>
            </a: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ALL BEHAVIOURS ARE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155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5440" y="189000"/>
            <a:ext cx="7953120" cy="633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……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..   Let’s do this 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things we can do to cope wit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mfortable feel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may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not change our outward appearance like chameleons can, w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ed with chan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do several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83664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what will stay the s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n a house move the family is usually the same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family reorganisation school friends wil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e a stable part of lif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opportunities or possible advantages th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might of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friend moves away you will probably get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or letters and maybe somewhere you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 holiday to see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76500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ourselves that all change is difficult but that yo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urvived change in the past and can do i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things one day at a time and focus on reward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self  for small successes and any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roblem-solving strate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with others in a similar posi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ing feelin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ays to relax and calm your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7-12-30T12:23:46Z</dcterms:modified>
  <cp:revision>21</cp:revision>
  <dc:subject/>
  <dc:title>BASEAL</dc:title>
</cp:coreProperties>
</file>